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WHOOSH.WAV" ContentType="audio/x-wav"/>
  <Override PartName="/ppt/media/highchime.wav" ContentType="audio/x-wav"/>
  <Override PartName="/ppt/media/CHIMES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children%20wow.wav" ContentType="audio/x-wav"/>
  <Override PartName="/ppt/media/image4.gif" ContentType="image/gif"/>
  <Override PartName="/ppt/media/zipby102.wav" ContentType="audio/x-wav"/>
  <Override PartName="/ppt/media/caralarmoff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E10-A7BB-42F0-816D-F5E5A537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63B-AE5E-4348-A689-286C6825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D70-4D4C-4FCE-877A-37EC93CA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44A-1D16-40DB-843B-CBC8CB55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12F-8350-4BCF-A4ED-69C2DF9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F6C-B6C6-4369-BA7C-A01EE994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192-62D8-4CB5-BBB0-21469C1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52B-7457-43CE-BFD8-BF000B8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3EC-21BC-4391-B6F1-C992CCE9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ED2-B36F-4CCF-B0C6-5DD2B3B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CA2-FADF-4121-8EB8-3538749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2F0-9434-442A-88AB-EDB3574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AB73-5576-4BF2-8368-0FE6B0E0A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hzipup01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zipby102.wav"/><Relationship Id="rId3" Type="http://schemas.openxmlformats.org/officeDocument/2006/relationships/audio" Target="../media/CHIME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hildren%20wow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  weight of a humming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.  14 in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33520" y="5762520"/>
                <a:ext cx="137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21000" y="5454720"/>
                <a:ext cx="1195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89480" y="6113520"/>
                <a:ext cx="1193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90880" y="630072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716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35800" y="574848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86600" y="5359320"/>
                <a:ext cx="16095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1.  14 pt =________ 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11560" y="5692680"/>
                <a:ext cx="1415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71920" y="6051600"/>
                <a:ext cx="1028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0" y="632160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314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54520" y="5695920"/>
                <a:ext cx="9208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537240" y="5756400"/>
                <a:ext cx="5367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2.  3 mi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81400" y="5740560"/>
                <a:ext cx="12747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m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09880" y="5454720"/>
                <a:ext cx="20196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280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1920" y="6113520"/>
                <a:ext cx="102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m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1452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03920" y="5749920"/>
                <a:ext cx="2131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72560" y="577692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289560" y="455760"/>
            <a:ext cx="2667240" cy="3333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-Wor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90720"/>
            <a:ext cx="647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3.   Fred’s fruit stand sells homemade lemonade in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5-pin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1.99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. Jill’s fruit stand sells homemade lemonade in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5-q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ame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price. At which stand do you get the most lemonade for the mon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7680" y="3605040"/>
                <a:ext cx="2606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q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79400" y="4510080"/>
                <a:ext cx="1747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9200" y="4167360"/>
                <a:ext cx="16020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79560" y="5043600"/>
                <a:ext cx="1292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1771560" y="4818240"/>
            <a:ext cx="711360" cy="245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16320" y="5334120"/>
            <a:ext cx="668160" cy="306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07920" y="4694400"/>
            <a:ext cx="725760" cy="37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417920"/>
                <a:ext cx="99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 flipH="1">
            <a:off x="2746440" y="5222880"/>
            <a:ext cx="479520" cy="320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414520" y="523404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970440" y="4622760"/>
                <a:ext cx="16477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22840" y="4718160"/>
                <a:ext cx="579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63720" y="585468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Jill’s stand is a better d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  length of a socc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y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  capacity of a eyedr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 weight of a 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.  length of a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.  capacity of a milk j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593712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7.  10 quarts to g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82720" y="5735520"/>
                <a:ext cx="1370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6640" y="5454720"/>
                <a:ext cx="14842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gal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1800" y="6197760"/>
                <a:ext cx="1030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H="1">
            <a:off x="3323880" y="595008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77680" y="591336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65480" y="5838840"/>
                <a:ext cx="37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4282560" y="6354720"/>
            <a:ext cx="56700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32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54040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61200" y="5707080"/>
                <a:ext cx="743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162920" y="5345280"/>
                <a:ext cx="19810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g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.  68 fluid ounces to c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81240" y="5753160"/>
                <a:ext cx="1936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8  fl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62400" y="5454720"/>
                <a:ext cx="1112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c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06960" y="6238800"/>
                <a:ext cx="1441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l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>
            <a:off x="3121200" y="5994360"/>
            <a:ext cx="91440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6972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6200" y="5796000"/>
                <a:ext cx="619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4197240" y="6354720"/>
            <a:ext cx="47952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44840" y="5761080"/>
                <a:ext cx="1272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10160" y="5375160"/>
                <a:ext cx="1071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76840" y="5810400"/>
                <a:ext cx="371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107120" y="5359320"/>
                <a:ext cx="1568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.  14 oz =________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30280" y="5738760"/>
                <a:ext cx="1463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lb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48080" y="6093000"/>
                <a:ext cx="1276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 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11760" y="6300720"/>
                <a:ext cx="371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1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94400" y="5748480"/>
                <a:ext cx="536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3-01T18:19:18Z</dcterms:modified>
  <cp:revision>123</cp:revision>
  <dc:subject/>
  <dc:title>No Slide Title</dc:title>
</cp:coreProperties>
</file>